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7"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AutoShape 2"/>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3"/>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4"/>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AutoShape 5"/>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AutoShape 6"/>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AutoShape 7"/>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PlaceHolder 1"/>
          <p:cNvSpPr>
            <a:spLocks noGrp="1"/>
          </p:cNvSpPr>
          <p:nvPr>
            <p:ph type="sldImg"/>
          </p:nvPr>
        </p:nvSpPr>
        <p:spPr>
          <a:xfrm>
            <a:off x="896400" y="1015560"/>
            <a:ext cx="4859640" cy="364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755" name="PlaceHolder 2"/>
          <p:cNvSpPr>
            <a:spLocks noGrp="1"/>
          </p:cNvSpPr>
          <p:nvPr>
            <p:ph type="body"/>
          </p:nvPr>
        </p:nvSpPr>
        <p:spPr>
          <a:xfrm>
            <a:off x="1031760" y="5030640"/>
            <a:ext cx="4595760" cy="4050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1"/>
          <p:cNvSpPr/>
          <p:nvPr/>
        </p:nvSpPr>
        <p:spPr>
          <a:xfrm>
            <a:off x="1143000" y="738360"/>
            <a:ext cx="4572000" cy="37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9" name="PlaceHolder 1"/>
          <p:cNvSpPr>
            <a:spLocks noGrp="1"/>
          </p:cNvSpPr>
          <p:nvPr>
            <p:ph type="body"/>
          </p:nvPr>
        </p:nvSpPr>
        <p:spPr>
          <a:xfrm>
            <a:off x="1031400" y="5030640"/>
            <a:ext cx="4597560" cy="4051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B3573C-7B0C-4B8D-AFC9-935A35946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A91B8B-1CD3-4B2E-A178-2F024FDB4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4F035-5FBA-4907-B8BC-67D6F253E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A41FC-DA60-4E13-B467-A341A5C8A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B3820-B1A7-40D1-8468-A9FF6917F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C97E6-CFE9-44BD-AE83-C0496EB96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12876-954A-493C-AE3D-5151F36BD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2A75BA-4ACB-438B-97CE-4AB7D42F1E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D782A4-BB07-405C-860D-F4E16708AF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292C18-380E-4BA3-A537-88A36C3ACC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A783BE-8326-4217-A3DA-843CC4B3F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D1476-2A46-4613-8BAD-7567D7210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E4808-1589-4861-BB3B-BAD70CCB5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9BC28-03B1-495D-B164-76EABD79F1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513189-B931-4700-8044-51AFCEA1A2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E40B6-34B7-4783-B98A-FBC734255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1FD55-CE33-4CDB-88DA-C2F52CF80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09D5D-8542-4314-AA7B-D634CCF43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EB687D-AFCF-41A4-8BF8-D544563E1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1EC095-8898-4A57-B90A-F65BF5D6ED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18083D-F50C-4873-A5C0-7CA45D673E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1071A1-4B7E-4F12-B430-768BA668C2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A034BF-BC7E-45B3-BF54-854F7D9B60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11B3CB-258C-4939-AD13-13EA925027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87542-ED69-4240-80AA-5EAAD576D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5D757F-71B6-4542-854E-8F4D1A375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8303D-ADA4-49E8-BA0A-7534D1331D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A0D8C-95E0-4BA6-BD9D-28039C7F5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1239F-79A7-42FB-B84B-F42D009CD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D51EE-B23D-40B6-94BB-B0D894668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1C998-D3D9-46F6-84F3-570DE4CBF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B7D03B-8FB6-4BCD-B6EA-6CB4BD0E67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021F3E-9C1C-4144-8479-418467BF26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2D325E-7908-4526-81A7-89AF6E5CAA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2EB63-BB69-46BF-A8DA-F61EF080F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127FE-C6B1-45B8-92BD-36C5E54E71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3061A-3A24-4EF7-A9A9-F5D07E17B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230BE-09B6-42A7-B777-873075A6D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589F3B-4F05-4C3C-90E3-7443FA93B0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2150D-6135-4211-8CD5-824CF026A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AE584-D607-4707-9B0D-2C4461CD6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03863-B650-4A93-8C97-58B9FEF00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38EC78-BE72-45BC-AE77-827BD7653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39E256-6563-41D3-AA86-A38CC9C815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8DDAC6-971B-4B1D-9234-28FEEC4734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311BB4-87E3-498D-8624-1CCDCA8A44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B65FF4-D74C-4523-85F3-055941985F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DCF2E7-D374-4E60-B2B5-46B9BEC8B7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BC6025-E45E-4717-A035-464EDCA5A1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AFA443-BC8B-45FD-8AF9-645B0FB30D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67598D-199A-4343-894B-C75ECFB05F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27D4C3-1E5A-48BB-9909-DACFD12E81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134D2D-6057-4B6C-B815-7ECB0250EA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5D7447-87D5-4466-8D46-371922086C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B11F0A-1536-40A2-B087-3CFC821253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CA96EC-C8F4-40DF-AF6F-01CFAABFDC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7A8520-7959-4384-97C2-C8B1BF8CE6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6E2F32-64B8-41AA-9D5A-CFE04EE314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A39C18-8250-4D6B-A307-18AEFB7E53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FC3FB7-AAD0-4147-A6C0-CC25FF1446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A0D92E-4249-4936-B1D7-AFD91C6ABD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09519C-11F7-414B-9FD9-8021260608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D7448B-CB2E-46AF-A335-BE5C3A36FC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5E4D15-894B-40BC-BC43-AB6CE5F224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D7CA3E-3710-4F97-B87A-74747A2A67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3C60EE-733A-43E0-8EFC-46B4BE0298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92AC43-5C87-46EA-A366-895035CA81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D9427E-EFBE-4859-8D11-13D5544580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F06683-2B35-4743-84A7-686EF6B4BF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65AD5D-CD74-4F94-9E11-E7527EA3C7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A1B64C-49AD-46AA-9AC1-350DA25197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051193-5A9B-47B4-9424-4C524264B3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9C90D8-4E76-40C8-AE80-1E62A2F08F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C3FF25-E8F3-45D7-91A3-F1B33D82CF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F63529-A2A6-4C51-861C-4C75412F30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C2BB72-4EDD-4BC1-8BE8-65F27B9DD5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B43A91-9B44-47B9-AC8F-6F43B6FE56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B0652D-D9E5-41AA-8B59-63FB2EBCA8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A3E9F5-F342-4E18-9BF5-08ACECF4B4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1A0469-0BD6-429D-A2AD-E6DCEA9CEB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0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CA1A69-B292-417D-B3E3-53D502660B2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CC5D8-FB65-4418-BF52-E1CAEA7A1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631AB-839F-4720-AB5B-F2965F4FB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E13D6-E7B3-4C8D-8B9E-921EFCA8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B265E-4864-457B-931D-E2FBFDD70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8FC4-3EB0-49FD-986D-460F74257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707A-F3A1-476C-B690-1A980640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6CCB-8CD1-4755-A63E-A057BBACC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03985-97EF-4EAC-9CAA-5D3CCE994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6143-F21B-4F48-9557-4E9D78330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0D1A-A39B-40D9-AD3B-289A6B79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626B5-688E-45DA-B55D-E1DBC93C9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1B526-C3AF-42F6-A231-5284B8EF9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A117D-8D6D-4186-BC4F-B4C08DC68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26E20-A7D0-4ACB-AB96-45E1CA501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4EC34-C78C-4CEC-8391-16344BA01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A2FD9-0837-47C4-A08C-4C30B570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61B7F-7C71-4370-AA86-0057A5ABC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80884-0064-4A7F-84A4-DA30DC1B6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7E99-9177-447E-97A0-9F82FB6F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7D9E-59BC-4649-AD08-F4DB7D4A6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6843F-A0C9-4A5F-8ACA-0E4042C07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DD679-C3E4-475E-BD34-744E8D094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4B309-2D39-433C-BAAD-9DE3EA207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52D61-C058-4922-94E7-8829BC37F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50D5B-57FB-4228-8869-84F9422FB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356D68-F9A6-4DA9-B327-9078F9D5A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5C6C6-6FEA-4A7F-B920-8EE43419C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918F7-50C9-44E8-A7F5-24D7C5963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3DDBB-A222-4279-963C-BDD795186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511F2-0002-4D43-B7D0-3C772FC0B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E8C00-34B7-4CEC-B6F1-340580837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A3386-9D26-454A-8A27-8E0543F5F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FE3B5-E7D9-4D9C-8CF2-6B51C640B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26E28-700C-4F9E-ABF8-12C5576BA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FF62D7-72ED-4983-9EC3-C978126C5B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A5EC35-7493-438D-8260-DDF2080C5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292AE1-89BA-47FF-ABC0-44966C310F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980EE-B00D-47CC-A12D-5B5E1D0B1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E4F26-FC69-4DAA-BC79-2222FAE20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725E8-2DAC-498A-9B68-FF64C1BF6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9B9B5-FC9D-4A01-8D31-8C62A9E447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EE64E3-88B6-4427-89AC-6ED7DE93B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408F1-16C1-418E-99E2-498E2CC2B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1845D-4B43-4DD0-8049-651A93A81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F6ACD-1283-4BF5-92CE-118FB35ED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F2F3E-DBC6-47E4-B465-81E9C20D99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EBA10B-1C84-4891-ADFE-985F6932B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C215FA-21EB-4A02-A3FD-5C9424BABE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13DCF1-CDC9-41FC-BA3B-25DE578D6D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DBD66-149C-49E1-A99B-DCB4B2B5C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45A1A-0121-4C77-8150-9CDB70652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7C4FC8-59C0-42D0-92ED-F7DA7E800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27E41-5E8C-48D7-BB37-BD33A339F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BA469-E9C0-45DB-90E4-F46AACBB4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C6388-3772-4FEA-A657-989AAA9BC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40304-9E73-48F8-AF63-3E7B0C695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18690-D3EB-483F-8C67-61619D904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1B915-1970-473B-B157-290AF419E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E71180-63FF-45BA-BED5-6A3241E594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05354E-1909-4624-9F9C-A6DACCBDF5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F40431-846D-4256-93EE-DA36DED075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7CE93-DD8A-435A-882C-FC86A9B4E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E9470-23B7-4D23-8177-2D7E4A6558F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71040" y="139680"/>
            <a:ext cx="77900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200"/>
            <a:ext cx="7790040" cy="45068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14" name="Group 15"/>
          <p:cNvGrpSpPr/>
          <p:nvPr/>
        </p:nvGrpSpPr>
        <p:grpSpPr>
          <a:xfrm>
            <a:off x="210960" y="1679400"/>
            <a:ext cx="8723520" cy="1330560"/>
            <a:chOff x="210960" y="1679400"/>
            <a:chExt cx="8723520" cy="1330560"/>
          </a:xfrm>
        </p:grpSpPr>
        <p:sp>
          <p:nvSpPr>
            <p:cNvPr id="41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2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2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9B2E03-4011-443E-8473-C15A61B25B8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62" name="Group 5"/>
          <p:cNvGrpSpPr/>
          <p:nvPr/>
        </p:nvGrpSpPr>
        <p:grpSpPr>
          <a:xfrm>
            <a:off x="210960" y="714240"/>
            <a:ext cx="8723520" cy="1330560"/>
            <a:chOff x="210960" y="714240"/>
            <a:chExt cx="8723520" cy="1330560"/>
          </a:xfrm>
        </p:grpSpPr>
        <p:sp>
          <p:nvSpPr>
            <p:cNvPr id="463"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4"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5"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6"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70"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EC8F4D-ADA2-4FD8-AC37-64CB590603B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0" name="Group 23"/>
          <p:cNvGrpSpPr/>
          <p:nvPr/>
        </p:nvGrpSpPr>
        <p:grpSpPr>
          <a:xfrm>
            <a:off x="210960" y="714240"/>
            <a:ext cx="8723520" cy="1332000"/>
            <a:chOff x="210960" y="714240"/>
            <a:chExt cx="8723520" cy="1332000"/>
          </a:xfrm>
        </p:grpSpPr>
        <p:sp>
          <p:nvSpPr>
            <p:cNvPr id="511"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3"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5"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1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18"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C6BFE0-8104-4F2A-8351-ACDFAB0E6C4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8" name="Group 8"/>
          <p:cNvGrpSpPr/>
          <p:nvPr/>
        </p:nvGrpSpPr>
        <p:grpSpPr>
          <a:xfrm>
            <a:off x="210960" y="5354640"/>
            <a:ext cx="8723520" cy="1330200"/>
            <a:chOff x="210960" y="5354640"/>
            <a:chExt cx="8723520" cy="1330200"/>
          </a:xfrm>
        </p:grpSpPr>
        <p:sp>
          <p:nvSpPr>
            <p:cNvPr id="559"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66"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0F52C0-68FE-4830-BC1C-CFBEA7C6544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6" name="Group 15"/>
          <p:cNvGrpSpPr/>
          <p:nvPr/>
        </p:nvGrpSpPr>
        <p:grpSpPr>
          <a:xfrm>
            <a:off x="210960" y="1679400"/>
            <a:ext cx="8723520" cy="1330560"/>
            <a:chOff x="210960" y="1679400"/>
            <a:chExt cx="8723520" cy="1330560"/>
          </a:xfrm>
        </p:grpSpPr>
        <p:sp>
          <p:nvSpPr>
            <p:cNvPr id="60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1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14"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DCCFFA-CF9C-4E64-B7F2-83D6ADBAC20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4" name="Group 14"/>
          <p:cNvGrpSpPr/>
          <p:nvPr/>
        </p:nvGrpSpPr>
        <p:grpSpPr>
          <a:xfrm>
            <a:off x="210960" y="714240"/>
            <a:ext cx="8723520" cy="1332000"/>
            <a:chOff x="210960" y="714240"/>
            <a:chExt cx="8723520" cy="1332000"/>
          </a:xfrm>
        </p:grpSpPr>
        <p:sp>
          <p:nvSpPr>
            <p:cNvPr id="65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6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62"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815392-B728-4DF8-A689-27112D780E9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02" name="Group 15"/>
          <p:cNvGrpSpPr/>
          <p:nvPr/>
        </p:nvGrpSpPr>
        <p:grpSpPr>
          <a:xfrm>
            <a:off x="210960" y="1679400"/>
            <a:ext cx="8723520" cy="1330560"/>
            <a:chOff x="210960" y="1679400"/>
            <a:chExt cx="8723520" cy="1330560"/>
          </a:xfrm>
        </p:grpSpPr>
        <p:sp>
          <p:nvSpPr>
            <p:cNvPr id="70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70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6"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7" name="Group 15"/>
          <p:cNvGrpSpPr/>
          <p:nvPr/>
        </p:nvGrpSpPr>
        <p:grpSpPr>
          <a:xfrm>
            <a:off x="210960" y="1679400"/>
            <a:ext cx="8723520" cy="1330560"/>
            <a:chOff x="210960" y="1679400"/>
            <a:chExt cx="8723520" cy="1330560"/>
          </a:xfrm>
        </p:grpSpPr>
        <p:sp>
          <p:nvSpPr>
            <p:cNvPr id="12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4"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16DAB6-92A3-4C0B-9DF5-40D3F4BA4E13}" type="datetime">
              <a:rPr b="0" lang="en-US" sz="1000" spc="-1" strike="noStrike">
                <a:solidFill>
                  <a:srgbClr val="073e87"/>
                </a:solidFill>
                <a:latin typeface="Times New Roman"/>
              </a:rPr>
              <a:t>07/31/26</a:t>
            </a:fld>
            <a:endParaRPr b="0" lang="en-US" sz="1000" spc="-1" strike="noStrike">
              <a:solidFill>
                <a:srgbClr val="000000"/>
              </a:solidFill>
              <a:latin typeface="Times New Roman"/>
            </a:endParaRPr>
          </a:p>
        </p:txBody>
      </p:sp>
      <p:sp>
        <p:nvSpPr>
          <p:cNvPr id="135"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CCA361-8DC3-4645-AF0B-CC24A44C875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37"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75" name="Group 9"/>
          <p:cNvGrpSpPr/>
          <p:nvPr/>
        </p:nvGrpSpPr>
        <p:grpSpPr>
          <a:xfrm>
            <a:off x="210960" y="5354640"/>
            <a:ext cx="8723520" cy="1330200"/>
            <a:chOff x="210960" y="5354640"/>
            <a:chExt cx="8723520" cy="1330200"/>
          </a:xfrm>
        </p:grpSpPr>
        <p:sp>
          <p:nvSpPr>
            <p:cNvPr id="17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3"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5F73CD-C7A3-4EEF-85D5-AB72AFBC3F2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23" name="Group 15"/>
          <p:cNvGrpSpPr/>
          <p:nvPr/>
        </p:nvGrpSpPr>
        <p:grpSpPr>
          <a:xfrm>
            <a:off x="210960" y="1679400"/>
            <a:ext cx="8723520" cy="1330560"/>
            <a:chOff x="210960" y="1679400"/>
            <a:chExt cx="8723520" cy="1330560"/>
          </a:xfrm>
        </p:grpSpPr>
        <p:sp>
          <p:nvSpPr>
            <p:cNvPr id="22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1"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C99059-9940-4F77-AC44-1E367BDD362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2"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4"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7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78"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23B4AF-95F5-4CFE-9EB1-E183CA14BCC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18" name="Group 15"/>
          <p:cNvGrpSpPr/>
          <p:nvPr/>
        </p:nvGrpSpPr>
        <p:grpSpPr>
          <a:xfrm>
            <a:off x="210960" y="1679400"/>
            <a:ext cx="8723520" cy="1330560"/>
            <a:chOff x="210960" y="1679400"/>
            <a:chExt cx="8723520" cy="1330560"/>
          </a:xfrm>
        </p:grpSpPr>
        <p:sp>
          <p:nvSpPr>
            <p:cNvPr id="31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2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2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55CA40-A778-4A61-B357-0F1AEAEF709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66" name="Group 15"/>
          <p:cNvGrpSpPr/>
          <p:nvPr/>
        </p:nvGrpSpPr>
        <p:grpSpPr>
          <a:xfrm>
            <a:off x="210960" y="1679400"/>
            <a:ext cx="8723520" cy="1330560"/>
            <a:chOff x="210960" y="1679400"/>
            <a:chExt cx="8723520" cy="1330560"/>
          </a:xfrm>
        </p:grpSpPr>
        <p:sp>
          <p:nvSpPr>
            <p:cNvPr id="36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74"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96A61F-85AA-40F8-B036-800F353A64D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99680" y="5229000"/>
            <a:ext cx="8209080" cy="14857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br>
              <a:rPr sz="2200"/>
            </a:br>
            <a:r>
              <a:rPr b="1" i="1" lang="ru-RU" sz="2800" spc="-1" strike="noStrike">
                <a:solidFill>
                  <a:srgbClr val="002060"/>
                </a:solidFill>
                <a:latin typeface="Times New Roman"/>
                <a:ea typeface="Times New Roman"/>
              </a:rPr>
              <a:t>В рамках проектной деятельности в ДОУ</a:t>
            </a:r>
            <a:br>
              <a:rPr sz="2800"/>
            </a:br>
            <a:r>
              <a:rPr b="1" i="1" lang="ru-RU" sz="2800" spc="-1" strike="noStrike">
                <a:solidFill>
                  <a:srgbClr val="002060"/>
                </a:solidFill>
                <a:latin typeface="Times New Roman"/>
                <a:ea typeface="Times New Roman"/>
              </a:rPr>
              <a:t>Инструктор по физической культуре Лосева Л.В.</a:t>
            </a:r>
            <a:br>
              <a:rPr sz="2800"/>
            </a:br>
            <a:endParaRPr b="0" lang="en-US" sz="2800" spc="-1" strike="noStrike">
              <a:solidFill>
                <a:srgbClr val="ffffff"/>
              </a:solidFill>
              <a:latin typeface="Candara"/>
            </a:endParaRPr>
          </a:p>
        </p:txBody>
      </p:sp>
      <p:grpSp>
        <p:nvGrpSpPr>
          <p:cNvPr id="757" name="TextBox 2"/>
          <p:cNvGrpSpPr/>
          <p:nvPr/>
        </p:nvGrpSpPr>
        <p:grpSpPr>
          <a:xfrm>
            <a:off x="1749600" y="1066680"/>
            <a:ext cx="6291000" cy="1809720"/>
            <a:chOff x="1749600" y="1066680"/>
            <a:chExt cx="6291000" cy="1809720"/>
          </a:xfrm>
        </p:grpSpPr>
        <p:pic>
          <p:nvPicPr>
            <p:cNvPr id="758" name="TextBox 2" descr=""/>
            <p:cNvPicPr/>
            <p:nvPr/>
          </p:nvPicPr>
          <p:blipFill>
            <a:blip r:embed="rId1"/>
            <a:stretch/>
          </p:blipFill>
          <p:spPr>
            <a:xfrm>
              <a:off x="1749600" y="1066680"/>
              <a:ext cx="6291000" cy="1809720"/>
            </a:xfrm>
            <a:prstGeom prst="rect">
              <a:avLst/>
            </a:prstGeom>
            <a:ln w="0">
              <a:noFill/>
            </a:ln>
          </p:spPr>
        </p:pic>
        <p:sp>
          <p:nvSpPr>
            <p:cNvPr id="759" name=""/>
            <p:cNvSpPr/>
            <p:nvPr/>
          </p:nvSpPr>
          <p:spPr>
            <a:xfrm>
              <a:off x="2032560" y="1214280"/>
              <a:ext cx="573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ПРЕЗЕНТАЦИЯ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Игры наших бабушек»</a:t>
              </a:r>
              <a:endParaRPr b="0" lang="en-US" sz="4000" spc="-1" strike="noStrike">
                <a:solidFill>
                  <a:srgbClr val="ffffff"/>
                </a:solidFill>
                <a:latin typeface="Arial"/>
              </a:endParaRPr>
            </a:p>
          </p:txBody>
        </p:sp>
      </p:grpSp>
      <p:pic>
        <p:nvPicPr>
          <p:cNvPr id="760" name="Picture 8" descr="http://yamac.ru/wp-content/uploads/media/%D0%BA%D0%BE%D0%BD%D1%81%D1%83%D0%BB%D1%8C%D1%82%D0%B0%D1%86%D0%B8%D1%8F-%D0%B4%D0%BB%D1%8F-%D1%80%D0%BE%D0%B4%D0%B8%D1%82%D0%B5%D0%BB%D0%B5%D0%B8%CC%86-%D0%A0%D1%83%D1%81%D1%81%D0%BA%D0%B8%D0%B5-%D1%85%D0%BE%D1%80%D0%BE%D0%B2%D0%BE%D0%B4%D1%8B/image5.jpeg"/>
          <p:cNvPicPr/>
          <p:nvPr/>
        </p:nvPicPr>
        <p:blipFill>
          <a:blip r:embed="rId2"/>
          <a:stretch/>
        </p:blipFill>
        <p:spPr>
          <a:xfrm>
            <a:off x="2714760" y="3000240"/>
            <a:ext cx="3732120" cy="200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http://fs00.infourok.ru/images/doc/158/182422/img1.jpg"/>
          <p:cNvPicPr/>
          <p:nvPr/>
        </p:nvPicPr>
        <p:blipFill>
          <a:blip r:embed="rId1"/>
          <a:stretch/>
        </p:blipFill>
        <p:spPr>
          <a:xfrm>
            <a:off x="500040" y="214200"/>
            <a:ext cx="8292960" cy="622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www.maam.ru/upload/blogs/0cd676d1e6673a5c970a986e5b5e9d04.jpg.jpg"/>
          <p:cNvPicPr/>
          <p:nvPr/>
        </p:nvPicPr>
        <p:blipFill>
          <a:blip r:embed="rId1"/>
          <a:stretch/>
        </p:blipFill>
        <p:spPr>
          <a:xfrm>
            <a:off x="571680" y="357120"/>
            <a:ext cx="8072280" cy="604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http://www.maam.ru/upload/blogs/7e21327eb09498454844090432a5c7e7.jpg.jpg"/>
          <p:cNvPicPr/>
          <p:nvPr/>
        </p:nvPicPr>
        <p:blipFill>
          <a:blip r:embed="rId1"/>
          <a:stretch/>
        </p:blipFill>
        <p:spPr>
          <a:xfrm>
            <a:off x="714240" y="600120"/>
            <a:ext cx="7607520" cy="57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http://www.maam.ru/upload/blogs/1cb4dc0dacee98093b2f961016116cbc.jpg.jpg"/>
          <p:cNvPicPr/>
          <p:nvPr/>
        </p:nvPicPr>
        <p:blipFill>
          <a:blip r:embed="rId1"/>
          <a:stretch/>
        </p:blipFill>
        <p:spPr>
          <a:xfrm>
            <a:off x="357120" y="357120"/>
            <a:ext cx="7880400" cy="581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Прямоугольник 1"/>
          <p:cNvSpPr/>
          <p:nvPr/>
        </p:nvSpPr>
        <p:spPr>
          <a:xfrm>
            <a:off x="357120" y="714240"/>
            <a:ext cx="35719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Гуси-гуси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Выбираются «хозяйка» и «волк». Остальные играющие — «гуси». «Хозяйка» сзывает гусей, «гуси» ей отвечают. — Гуси-гуси! — Га-га-га — Есть хотите? — Да-да-да! — Ну, летите же домой! — Серый волк под горой, Не пускает нас домой, Зубы точит, Съесть нас хочет! — Ну летите, как хотите, только крылья берегите! «Гуси» разбегаются, «волк» их ловит. Когда «волк» переловит всех «гусей», «хозяйка» говорит ему: — Волк, у тебя на дворе много свиней и других зверей. Пойди прогони их. «Волк» просит ее прогнать их. «Хозяйка» трижды делает вид, что прогоняет зверей, но не может прогнать всех. Тогда «волк» идет прогонять их сам, а «хозяйка» в это время уводит «гусей» домой.</a:t>
            </a:r>
            <a:endParaRPr b="0" lang="en-US" sz="1600" spc="-1" strike="noStrike">
              <a:solidFill>
                <a:srgbClr val="ffffff"/>
              </a:solidFill>
              <a:latin typeface="Arial"/>
            </a:endParaRPr>
          </a:p>
        </p:txBody>
      </p:sp>
      <p:pic>
        <p:nvPicPr>
          <p:cNvPr id="786" name="Picture 2" descr="https://pbs.twimg.com/media/B-sw0NYWoAEDjE8.jpg"/>
          <p:cNvPicPr/>
          <p:nvPr/>
        </p:nvPicPr>
        <p:blipFill>
          <a:blip r:embed="rId1"/>
          <a:stretch/>
        </p:blipFill>
        <p:spPr>
          <a:xfrm>
            <a:off x="3929040" y="2143080"/>
            <a:ext cx="47912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Прямоугольник 1"/>
          <p:cNvSpPr/>
          <p:nvPr/>
        </p:nvSpPr>
        <p:spPr>
          <a:xfrm>
            <a:off x="357120" y="1285920"/>
            <a:ext cx="457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ГОРОДКИ</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Говоря о старинных русских играх, нельзя не вспомнить Городки ( в некоторых областях они называются «рюхи» или «чушки») суть игры состоит в том, чтобы бросками бит выбить из площадки (города) определенное количество различных фигур, составленных из пяти городков. Играющие поочередно делают по две попытки. Победителем считается игрок или команда, потратившие на выбивание фигур наименьшее количество бит. </a:t>
            </a:r>
            <a:endParaRPr b="0" lang="en-US" sz="2000" spc="-1" strike="noStrike">
              <a:solidFill>
                <a:srgbClr val="ffffff"/>
              </a:solidFill>
              <a:latin typeface="Arial"/>
            </a:endParaRPr>
          </a:p>
        </p:txBody>
      </p:sp>
      <p:pic>
        <p:nvPicPr>
          <p:cNvPr id="788" name="Picture 2" descr="http://www.ekbfree.ru/upload/resize_cache/iblock/1cc/720_380_2/gorodki_iz_dereva_3.jpg"/>
          <p:cNvPicPr/>
          <p:nvPr/>
        </p:nvPicPr>
        <p:blipFill>
          <a:blip r:embed="rId1"/>
          <a:stretch/>
        </p:blipFill>
        <p:spPr>
          <a:xfrm>
            <a:off x="5000760" y="1143000"/>
            <a:ext cx="3519360" cy="1857240"/>
          </a:xfrm>
          <a:prstGeom prst="rect">
            <a:avLst/>
          </a:prstGeom>
          <a:ln w="0">
            <a:noFill/>
          </a:ln>
        </p:spPr>
      </p:pic>
      <p:pic>
        <p:nvPicPr>
          <p:cNvPr id="789" name="Picture 6" descr="http://tv-mig.ru/upload/iblock/566/56696b8e7cc07d37b0fba714d39ea364.jpg"/>
          <p:cNvPicPr/>
          <p:nvPr/>
        </p:nvPicPr>
        <p:blipFill>
          <a:blip r:embed="rId2"/>
          <a:stretch/>
        </p:blipFill>
        <p:spPr>
          <a:xfrm>
            <a:off x="5143680" y="3857760"/>
            <a:ext cx="3357360" cy="23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Прямоугольник 1"/>
          <p:cNvSpPr/>
          <p:nvPr/>
        </p:nvSpPr>
        <p:spPr>
          <a:xfrm>
            <a:off x="428760" y="571680"/>
            <a:ext cx="85723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У дядюшки Трифона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Играющие берутся за руки, образуя круг, водящий – в середине. Все поют или приговаривают: У дядюшки Трифона семеро детей, Семеро детей, и все сыновья. Они не пьют, не едят, Друг на друга глядят И все делают вот так. При этом водящий, выполняет какие – либо движения, а все играющие должны повторить их. Тот, кто не успевает повторить движения или повторяет их неточно, платит фант. Движения должны быть забавными. Салки 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На слова «раз, два, три, смотри» дети открывают глаза. Тот, которому достался предмет, поднимает руки вверх и говорит «Я — салка». Участники игры, прыгая на одной ноге, убегают от салки. Тот, кого он коснулся рукой, идет водить. Он берет предмет, поднимает его вверх, быстро говорит слова: «Я — салка!» Игра повторяется. Правила. 1. Если играющий устал, он может прыгать поочередно то на одной, то на другой ноге. 2. Когда меняются салки, играющим разрешается вставать на обе ноги. 3. Салка тоже должен прыгать на одной ноге.</a:t>
            </a:r>
            <a:endParaRPr b="0" lang="en-US" sz="1600" spc="-1" strike="noStrike">
              <a:solidFill>
                <a:srgbClr val="ffffff"/>
              </a:solidFill>
              <a:latin typeface="Arial"/>
            </a:endParaRPr>
          </a:p>
        </p:txBody>
      </p:sp>
      <p:pic>
        <p:nvPicPr>
          <p:cNvPr id="791" name="Picture 2" descr="https://upload.wikimedia.org/wikipedia/commons/9/9b/Hans_Thoma_003.jpg"/>
          <p:cNvPicPr/>
          <p:nvPr/>
        </p:nvPicPr>
        <p:blipFill>
          <a:blip r:embed="rId1"/>
          <a:stretch/>
        </p:blipFill>
        <p:spPr>
          <a:xfrm>
            <a:off x="2928960" y="4143240"/>
            <a:ext cx="328608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Прямоугольник 1"/>
          <p:cNvSpPr/>
          <p:nvPr/>
        </p:nvSpPr>
        <p:spPr>
          <a:xfrm>
            <a:off x="428760" y="47484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Игры нашего времен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Краск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Участники игры выбирают продавца и двух покупателей. Остальные игроки придумывают себе цвет и тихо называют его продавцу. После этого продавец приглашает одного из покупателей. Покупатель стучит в дверь: – Тук, тук! – Кто там? – Покупатель. – Зачем пришёл? – За краской. – За какой? – За голубой. Если голубой краски нет, продавец говорит: «Иди по голубой дорожке, найди голубые сапожки, поноси, да назад принеси!». Если же покупатель угадал цвет краски, то забирает её себе. Приходит второй покупатель, и разговор с продавцом повторяется. Так покупатели по очереди подходят и выбирают краски. Выигрывает покупатель, купивший больше красок. Он становится продавцом</a:t>
            </a:r>
            <a:r>
              <a:rPr b="0" lang="ru-RU"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pic>
        <p:nvPicPr>
          <p:cNvPr id="793" name="Picture 2" descr="https://bosichkom.com/sites/bosichkom.com/files/field/image/x_23ced10a.jpg"/>
          <p:cNvPicPr/>
          <p:nvPr/>
        </p:nvPicPr>
        <p:blipFill>
          <a:blip r:embed="rId1"/>
          <a:stretch/>
        </p:blipFill>
        <p:spPr>
          <a:xfrm>
            <a:off x="500040" y="3786120"/>
            <a:ext cx="3857760" cy="2363760"/>
          </a:xfrm>
          <a:prstGeom prst="rect">
            <a:avLst/>
          </a:prstGeom>
          <a:ln w="0">
            <a:noFill/>
          </a:ln>
        </p:spPr>
      </p:pic>
      <p:pic>
        <p:nvPicPr>
          <p:cNvPr id="794" name="Picture 4" descr="http://www.krasnoyeznamya.ru/gallery/rm_49_3270.jpg"/>
          <p:cNvPicPr/>
          <p:nvPr/>
        </p:nvPicPr>
        <p:blipFill>
          <a:blip r:embed="rId2"/>
          <a:stretch/>
        </p:blipFill>
        <p:spPr>
          <a:xfrm>
            <a:off x="4929120" y="3786120"/>
            <a:ext cx="3467160" cy="23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http://files.dou15ulybka.webnode.ru/200000411-0ef1b0febe/image.jpg"/>
          <p:cNvPicPr/>
          <p:nvPr/>
        </p:nvPicPr>
        <p:blipFill>
          <a:blip r:embed="rId1"/>
          <a:stretch/>
        </p:blipFill>
        <p:spPr>
          <a:xfrm>
            <a:off x="2428920" y="357120"/>
            <a:ext cx="4714920" cy="628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Прямоугольник 1"/>
          <p:cNvSpPr/>
          <p:nvPr/>
        </p:nvSpPr>
        <p:spPr>
          <a:xfrm>
            <a:off x="428760" y="336600"/>
            <a:ext cx="82864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2060"/>
                </a:solidFill>
                <a:latin typeface="Times New Roman"/>
                <a:ea typeface="Times New Roman"/>
              </a:rPr>
              <a:t>Заключение.</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В ходе этой работы мы узнали различные народные игры, их влияние на развитие ребёнка. Есть много интересных игр, и мы не будем отказываться от них. В мире компьютеризации оставим место настоящей игре. Многие игры бабушек и дедушек остаются любимыми у детей нашего поколения: «Жмурки», «Прятки», «Утки-охотники» и другие. Правила этих игр складывались и проверялись десятилетиями, даже веками, в их создании принимали участие многие поколения ребят, жившие на нашей земле. И это очень мудрые правила. Игры, в которые играли наши бабушки, несут не только развлекательный, но и познавательный характер. Каждая игра сопровождается закличками, песнями, танцами. Они объединяют, укрепляют чувство команды, дают возможность подружиться ребятам разного возрас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Прямоугольник 2"/>
          <p:cNvSpPr/>
          <p:nvPr/>
        </p:nvSpPr>
        <p:spPr>
          <a:xfrm>
            <a:off x="857160" y="428760"/>
            <a:ext cx="750096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 служат средством самопознания, помогают проявлять свои лучшие качества: доброту, благородство, взаимовыручку; - доносят до сознания детей ценность и смысл сохранения культурного наследия; - обогащают социальный и духовно - нравственный опыт детей и взрослых, посредством познания истории игрушек своей семьи.</a:t>
            </a:r>
            <a:endParaRPr b="0" lang="en-US" sz="2000" spc="-1" strike="noStrike">
              <a:solidFill>
                <a:srgbClr val="ffffff"/>
              </a:solidFill>
              <a:latin typeface="Arial"/>
            </a:endParaRPr>
          </a:p>
        </p:txBody>
      </p:sp>
      <p:pic>
        <p:nvPicPr>
          <p:cNvPr id="762" name="Picture 5" descr="http://kak.znate.ru/pars_docs/refs/13/12621/12621-6_2.jpg"/>
          <p:cNvPicPr/>
          <p:nvPr/>
        </p:nvPicPr>
        <p:blipFill>
          <a:blip r:embed="rId1"/>
          <a:stretch/>
        </p:blipFill>
        <p:spPr>
          <a:xfrm>
            <a:off x="2928960" y="292896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Прямоугольник 1"/>
          <p:cNvSpPr/>
          <p:nvPr/>
        </p:nvSpPr>
        <p:spPr>
          <a:xfrm>
            <a:off x="2095920" y="1857240"/>
            <a:ext cx="49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Times New Roman"/>
                <a:ea typeface="Times New Roman"/>
              </a:rPr>
              <a:t>Спасибо за внимани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Прямоугольник 2"/>
          <p:cNvSpPr/>
          <p:nvPr/>
        </p:nvSpPr>
        <p:spPr>
          <a:xfrm>
            <a:off x="500040" y="642960"/>
            <a:ext cx="80726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a:t>
            </a:r>
            <a:r>
              <a:rPr b="0" lang="ru-RU" sz="24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знакомство детей с многообразием народных игр и игрушек. Задачи: изучить игры бабушек и дедушек; познакомить детей с игрушками, с которыми играли их бабушки и дедушки; воспитывать бережное отношение к игрушкам; содействовать формированию сотрудничества в детско-родительских отношениях </a:t>
            </a:r>
            <a:endParaRPr b="0" lang="en-US" sz="2000" spc="-1" strike="noStrike">
              <a:solidFill>
                <a:srgbClr val="ffffff"/>
              </a:solidFill>
              <a:latin typeface="Arial"/>
            </a:endParaRPr>
          </a:p>
        </p:txBody>
      </p:sp>
      <p:pic>
        <p:nvPicPr>
          <p:cNvPr id="764" name="Picture 3" descr="http://www.igrosvit.com.ua/editorfiles/images/babusya3.jpg"/>
          <p:cNvPicPr/>
          <p:nvPr/>
        </p:nvPicPr>
        <p:blipFill>
          <a:blip r:embed="rId1"/>
          <a:stretch/>
        </p:blipFill>
        <p:spPr>
          <a:xfrm>
            <a:off x="2786040" y="242892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71680" y="928800"/>
            <a:ext cx="8229600" cy="23572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ПЛАН РАБОТЫ </a:t>
            </a:r>
            <a:endParaRPr b="0" lang="en-US" sz="20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Беседы с бабушками и дедушками «Во что играли наши бабушки и дедушки»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Составление рассказов на темы «Любимая игра моей бабушки», «Мы с дедушкой любим играть»</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влечение « А без бабушек и дедушек — это что же за семья».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исование игр и игрушек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учивание игр на прогулке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Занятие « Куклы наших бабушек»</a:t>
            </a:r>
            <a:endParaRPr b="0" lang="en-US" sz="17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Прямоугольник 1"/>
          <p:cNvSpPr/>
          <p:nvPr/>
        </p:nvSpPr>
        <p:spPr>
          <a:xfrm>
            <a:off x="1285920" y="571680"/>
            <a:ext cx="62863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Необычные игрушки</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Мои бабушка и дедушка живут в деревне. Баба делала сама кукол из тряпочек и глины. Дедушка играл в машинки, которые ему родители вырезали из дерева. </a:t>
            </a:r>
            <a:endParaRPr b="0" lang="en-US" sz="2000" spc="-1" strike="noStrike">
              <a:solidFill>
                <a:srgbClr val="ffffff"/>
              </a:solidFill>
              <a:latin typeface="Arial"/>
            </a:endParaRPr>
          </a:p>
        </p:txBody>
      </p:sp>
      <p:pic>
        <p:nvPicPr>
          <p:cNvPr id="767" name="Picture 4" descr="http://img0.liveinternet.ru/images/attach/c/0/53/136/53136869_1111.jpg"/>
          <p:cNvPicPr/>
          <p:nvPr/>
        </p:nvPicPr>
        <p:blipFill>
          <a:blip r:embed="rId1"/>
          <a:stretch/>
        </p:blipFill>
        <p:spPr>
          <a:xfrm>
            <a:off x="6929280" y="2071800"/>
            <a:ext cx="1592280" cy="3004920"/>
          </a:xfrm>
          <a:prstGeom prst="rect">
            <a:avLst/>
          </a:prstGeom>
          <a:ln w="0">
            <a:noFill/>
          </a:ln>
        </p:spPr>
      </p:pic>
      <p:pic>
        <p:nvPicPr>
          <p:cNvPr id="768" name="Picture 6" descr="http://st.stranamam.ru/data/cache/2012jun/16/30/4858192_99604.jpg"/>
          <p:cNvPicPr/>
          <p:nvPr/>
        </p:nvPicPr>
        <p:blipFill>
          <a:blip r:embed="rId2"/>
          <a:stretch/>
        </p:blipFill>
        <p:spPr>
          <a:xfrm>
            <a:off x="500040" y="2214720"/>
            <a:ext cx="1971720" cy="3009600"/>
          </a:xfrm>
          <a:prstGeom prst="rect">
            <a:avLst/>
          </a:prstGeom>
          <a:ln w="0">
            <a:noFill/>
          </a:ln>
        </p:spPr>
      </p:pic>
      <p:pic>
        <p:nvPicPr>
          <p:cNvPr id="769" name="Picture 8" descr="http://topreferat.znate.ru/pars_docs/refs/42/41848/41848-59_4.jpg"/>
          <p:cNvPicPr/>
          <p:nvPr/>
        </p:nvPicPr>
        <p:blipFill>
          <a:blip r:embed="rId3"/>
          <a:stretch/>
        </p:blipFill>
        <p:spPr>
          <a:xfrm>
            <a:off x="2643120" y="2714760"/>
            <a:ext cx="3819600" cy="32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Прямоугольник 1"/>
          <p:cNvSpPr/>
          <p:nvPr/>
        </p:nvSpPr>
        <p:spPr>
          <a:xfrm>
            <a:off x="2441160" y="5000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Игрушки наших бабушек</a:t>
            </a:r>
            <a:endParaRPr b="0" lang="en-US" sz="2400" spc="-1" strike="noStrike">
              <a:solidFill>
                <a:srgbClr val="ffffff"/>
              </a:solidFill>
              <a:latin typeface="Arial"/>
            </a:endParaRPr>
          </a:p>
        </p:txBody>
      </p:sp>
      <p:pic>
        <p:nvPicPr>
          <p:cNvPr id="771" name="Picture 4" descr="http://www.metod-kopilka.ru/images/doc/18/12571/img2.jpg"/>
          <p:cNvPicPr/>
          <p:nvPr/>
        </p:nvPicPr>
        <p:blipFill>
          <a:blip r:embed="rId1"/>
          <a:stretch/>
        </p:blipFill>
        <p:spPr>
          <a:xfrm>
            <a:off x="928800" y="500040"/>
            <a:ext cx="7435800" cy="55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Прямоугольник 1"/>
          <p:cNvSpPr/>
          <p:nvPr/>
        </p:nvSpPr>
        <p:spPr>
          <a:xfrm>
            <a:off x="3296880" y="4287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Рисунки детей</a:t>
            </a:r>
            <a:endParaRPr b="0" lang="en-US" sz="2400" spc="-1" strike="noStrike">
              <a:solidFill>
                <a:srgbClr val="ffffff"/>
              </a:solidFill>
              <a:latin typeface="Arial"/>
            </a:endParaRPr>
          </a:p>
        </p:txBody>
      </p:sp>
      <p:pic>
        <p:nvPicPr>
          <p:cNvPr id="773" name="Picture 2" descr="http://art.karelia.pro/files/image/2/79249.jpg"/>
          <p:cNvPicPr/>
          <p:nvPr/>
        </p:nvPicPr>
        <p:blipFill>
          <a:blip r:embed="rId1"/>
          <a:stretch/>
        </p:blipFill>
        <p:spPr>
          <a:xfrm>
            <a:off x="3357720" y="1428840"/>
            <a:ext cx="2214360" cy="3803400"/>
          </a:xfrm>
          <a:prstGeom prst="rect">
            <a:avLst/>
          </a:prstGeom>
          <a:ln w="0">
            <a:noFill/>
          </a:ln>
        </p:spPr>
      </p:pic>
      <p:pic>
        <p:nvPicPr>
          <p:cNvPr id="774" name="Picture 4" descr="http://www.vsluh.ru/uploads/base_image/image/44791/huge_b347a5b7-e04c-439a-8b4b-f9cbc187ca0f.jpg"/>
          <p:cNvPicPr/>
          <p:nvPr/>
        </p:nvPicPr>
        <p:blipFill>
          <a:blip r:embed="rId2"/>
          <a:stretch/>
        </p:blipFill>
        <p:spPr>
          <a:xfrm>
            <a:off x="5857920" y="4643280"/>
            <a:ext cx="3009960" cy="1857600"/>
          </a:xfrm>
          <a:prstGeom prst="rect">
            <a:avLst/>
          </a:prstGeom>
          <a:ln w="0">
            <a:noFill/>
          </a:ln>
        </p:spPr>
      </p:pic>
      <p:pic>
        <p:nvPicPr>
          <p:cNvPr id="775" name="Picture 6" descr="http://youpainter.ru/sites/default/files/styles/painting/public/users/artur_hamadiyarov/artur_hamadiyarov_dedushka_babushka_ya_horoshie_druzya.jpg?itok=uG_39KNz"/>
          <p:cNvPicPr/>
          <p:nvPr/>
        </p:nvPicPr>
        <p:blipFill>
          <a:blip r:embed="rId3"/>
          <a:stretch/>
        </p:blipFill>
        <p:spPr>
          <a:xfrm>
            <a:off x="214200" y="4357800"/>
            <a:ext cx="2828880" cy="2120760"/>
          </a:xfrm>
          <a:prstGeom prst="rect">
            <a:avLst/>
          </a:prstGeom>
          <a:ln w="0">
            <a:noFill/>
          </a:ln>
        </p:spPr>
      </p:pic>
      <p:pic>
        <p:nvPicPr>
          <p:cNvPr id="776" name="Picture 8" descr="http://detdomug.ru/uploads/images/larec_tvorchestva/img_2739(1).jpg"/>
          <p:cNvPicPr/>
          <p:nvPr/>
        </p:nvPicPr>
        <p:blipFill>
          <a:blip r:embed="rId4"/>
          <a:stretch/>
        </p:blipFill>
        <p:spPr>
          <a:xfrm>
            <a:off x="500040" y="727200"/>
            <a:ext cx="2286000" cy="3120840"/>
          </a:xfrm>
          <a:prstGeom prst="rect">
            <a:avLst/>
          </a:prstGeom>
          <a:ln w="0">
            <a:noFill/>
          </a:ln>
        </p:spPr>
      </p:pic>
      <p:pic>
        <p:nvPicPr>
          <p:cNvPr id="777" name="Picture 10" descr="http://gubdaily.ru/wp-content/gallery/babushki/79071.jpg"/>
          <p:cNvPicPr/>
          <p:nvPr/>
        </p:nvPicPr>
        <p:blipFill>
          <a:blip r:embed="rId5"/>
          <a:stretch/>
        </p:blipFill>
        <p:spPr>
          <a:xfrm>
            <a:off x="6357960" y="1143000"/>
            <a:ext cx="232416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Прямоугольник 1"/>
          <p:cNvSpPr/>
          <p:nvPr/>
        </p:nvSpPr>
        <p:spPr>
          <a:xfrm>
            <a:off x="642960" y="35712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Игры наших бабушек и дедушек</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очень многообразны: детские игры, настольные игры, хороводные игры для взрослых с народными песнями, прибаутками, плясками. Игры издавна служили средством самопознания, здесь проявляли свои лучшие качества: доброту, благородство, взаимовыручку, самопожертвование ради других.</a:t>
            </a:r>
            <a:endParaRPr b="0" lang="en-US" sz="2000" spc="-1" strike="noStrike">
              <a:solidFill>
                <a:srgbClr val="ffffff"/>
              </a:solidFill>
              <a:latin typeface="Arial"/>
            </a:endParaRPr>
          </a:p>
        </p:txBody>
      </p:sp>
      <p:pic>
        <p:nvPicPr>
          <p:cNvPr id="779" name="Picture 2" descr="http://ostrovpsy.ucoz.ru/_nw/0/34300115.jpg"/>
          <p:cNvPicPr/>
          <p:nvPr/>
        </p:nvPicPr>
        <p:blipFill>
          <a:blip r:embed="rId1"/>
          <a:stretch/>
        </p:blipFill>
        <p:spPr>
          <a:xfrm>
            <a:off x="2000160" y="2714760"/>
            <a:ext cx="4827600" cy="33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900igr.net/datas/biologija/Lebed/0009-009-Igry.jpg"/>
          <p:cNvPicPr/>
          <p:nvPr/>
        </p:nvPicPr>
        <p:blipFill>
          <a:blip r:embed="rId1"/>
          <a:stretch/>
        </p:blipFill>
        <p:spPr>
          <a:xfrm>
            <a:off x="642960" y="500040"/>
            <a:ext cx="8001000" cy="600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1:06:49Z</dcterms:created>
  <dc:creator>User User</dc:creator>
  <dc:description/>
  <dc:language>en-US</dc:language>
  <cp:lastModifiedBy>Старший воспитатель</cp:lastModifiedBy>
  <cp:lastPrinted>2021-12-07T07:59:13Z</cp:lastPrinted>
  <dcterms:modified xsi:type="dcterms:W3CDTF">2021-12-07T08:02:29Z</dcterms:modified>
  <cp:revision>91</cp:revision>
  <dc:subject/>
  <dc:title>Роль ПНПО в развитии (модернизации) образования страны</dc:title>
</cp:coreProperties>
</file>